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0.png" ContentType="image/png"/>
  <Override PartName="/ppt/media/image5.png" ContentType="image/png"/>
  <Override PartName="/ppt/media/image12.png" ContentType="image/png"/>
  <Override PartName="/ppt/media/image7.png" ContentType="image/png"/>
  <Override PartName="/ppt/media/image4.pct" ContentType="image/x-pict"/>
  <Override PartName="/ppt/media/image11.png" ContentType="image/png"/>
  <Override PartName="/ppt/media/image6.png" ContentType="image/png"/>
  <Override PartName="/ppt/media/image3.pct" ContentType="image/x-pict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53DE3-3389-446C-921A-413437272B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7598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AD5C9-3FC8-41E6-BA2A-C7EA7D4A71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7598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7598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1A8B1-8EE3-4A24-9187-75F5E8C79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7598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7598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7598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DA139-EA61-4439-8A3B-658596880A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98504-612A-4333-9004-719145FFCA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18041-8A1D-423B-B0EE-FE065D7CBB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57AF4-5B37-4DA5-9F19-2CC3537A25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31C29-FEAD-44BB-9DF5-FD11F86175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7920" y="-76320"/>
            <a:ext cx="67057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FE48B-8F80-4274-8906-91C1F092FD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7598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87F01-3F79-41E3-B69B-410226E85B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7598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CCE33-8AC2-4FF1-9E25-348AB31669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598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24619-67CF-423D-AB1C-038209F8A0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438280" y="0"/>
            <a:ext cx="670572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914400"/>
            <a:ext cx="24382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438280" y="6324480"/>
            <a:ext cx="6705720" cy="533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324480"/>
            <a:ext cx="2438280" cy="533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38280" y="64008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Md BT"/>
              </a:rPr>
              <a:t>US DOE Joint Genome In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066680"/>
            <a:ext cx="2438280" cy="5257800"/>
          </a:xfrm>
          <a:prstGeom prst="rect">
            <a:avLst/>
          </a:prstGeom>
          <a:solidFill>
            <a:srgbClr val="c9c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spcBef>
                <a:spcPts val="601"/>
              </a:spcBef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9600" indent="-284040">
              <a:spcBef>
                <a:spcPts val="601"/>
              </a:spcBef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A7FC-6A02-4D76-90B4-96EE19EEC5C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JGI_logo_web1" descr=""/>
          <p:cNvPicPr/>
          <p:nvPr/>
        </p:nvPicPr>
        <p:blipFill>
          <a:blip r:embed="rId4"/>
          <a:stretch/>
        </p:blipFill>
        <p:spPr>
          <a:xfrm>
            <a:off x="0" y="0"/>
            <a:ext cx="2438280" cy="13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dcode.org/" TargetMode="External"/><Relationship Id="rId2" Type="http://schemas.openxmlformats.org/officeDocument/2006/relationships/hyperlink" Target="http://www.dcode.org/" TargetMode="External"/><Relationship Id="rId3" Type="http://schemas.openxmlformats.org/officeDocument/2006/relationships/hyperlink" Target="http://www.dcode.org/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752120" y="1676160"/>
            <a:ext cx="71629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Human Annotation @ the JG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strid Ter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utomated anno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nual Cu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DFBB9-49F8-47A5-8DBF-0EC44F291E2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icky deta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6499080" cy="2209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3276720"/>
            <a:ext cx="7848720" cy="1087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57200" y="4419720"/>
            <a:ext cx="85345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llows manual curation of problematic gene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iew DNA sequence, splice sites and all 6 frames of trans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hange errors propagated by automated pipeline or error in 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heck Start, Stop and O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F6DC2-E029-4A11-9CE8-20807832783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o or o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66520" y="13712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iken mouse cDNA suggests that the human models in this region belong to a single loc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6705720" cy="4624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2280" y="34290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use mRNA (tblast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3F3AC-ABC5-41CD-B390-CF89E232B27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37920" y="759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Comic Sans MS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fc0128"/>
                </a:solidFill>
                <a:uFillTx/>
                <a:latin typeface="Comic Sans MS"/>
                <a:hlinkClick r:id="rId2"/>
              </a:rPr>
              <a:t>dcode</a:t>
            </a:r>
            <a:r>
              <a:rPr b="0" lang="en-US" sz="2800" spc="-1" strike="noStrike" u="sng">
                <a:solidFill>
                  <a:srgbClr val="fc0128"/>
                </a:solidFill>
                <a:uFillTx/>
                <a:latin typeface="Comic Sans MS"/>
                <a:hlinkClick r:id="rId3"/>
              </a:rPr>
              <a:t>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295280" y="1182600"/>
            <a:ext cx="7696440" cy="3838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80880" y="50292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volutionar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nservation profil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th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man, mouse, rat, chicken, frog, fugu, tetraodon, zebrafish,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osophil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gen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EF509-F24F-405E-98B5-078F3CD3AE0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ternate CTG st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666520" y="1143000"/>
            <a:ext cx="5791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ometimes CTG is used as the start instead of AT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DK10 has 2 isoforms in RefSeq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ixed ORF most closely matches RefSe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25480" y="2819520"/>
            <a:ext cx="7023240" cy="2361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43000" y="5346720"/>
            <a:ext cx="5600880" cy="901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flipH="1">
            <a:off x="1523520" y="4952880"/>
            <a:ext cx="12193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4952880"/>
            <a:ext cx="35053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814E8-E197-4D46-A8B9-0B6D8AD232D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rameshift Del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90920" y="4495320"/>
            <a:ext cx="58672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 frame shift deletion in the genomic sequence results in poor matches to known protei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tch the known protein exactl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how the actual trans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pends on support for each scenar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8991720" cy="2590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057400" y="1066680"/>
            <a:ext cx="5181480" cy="117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70CF5-7C40-408A-A8A2-3E738E57D0A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verlapping divergent transcri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90920" y="3809520"/>
            <a:ext cx="5867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nly partially overlapping transcripts have very different CDS but share common ex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fSeq is extend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hr19 genes are densely packed on both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03200" y="1371600"/>
            <a:ext cx="653760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E0996-F20B-4E01-99CB-9731E3A89C7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ternate spli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27360" y="1488960"/>
            <a:ext cx="59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distinguishing incompletely processed mRNAs from splice varia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Retained intron interupts O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Differences with RefSeq, possibly due to variation in popul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1600" r="0" b="3843"/>
          <a:stretch/>
        </p:blipFill>
        <p:spPr>
          <a:xfrm>
            <a:off x="1244520" y="3200400"/>
            <a:ext cx="7365960" cy="270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3818E-9E27-446E-8BDE-6E7A2C1DF33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seudog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14600" y="1599840"/>
            <a:ext cx="5943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isabled gene that has an insult- stop or frameshift that interrupts or changes the ORF from the parent gen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olymorphic sites or transcripts indicate that locus activity may vary between individu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ocess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ue to retro transposition of RNA into genomic DNA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ingle exon, polyA, lacks promotor/CpG, degraded condi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Non-process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ue to duplication, subsequently disabled, possible to find parent reg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enerally multi exon, promotor/CpG 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84659-4872-4A34-8F33-155A988FE50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cessed Pseudog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62320" y="1077840"/>
            <a:ext cx="3429000" cy="1636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5800" y="2606760"/>
            <a:ext cx="3809880" cy="1584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648320" y="2743200"/>
            <a:ext cx="3809880" cy="1209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990720" y="4114800"/>
            <a:ext cx="1938240" cy="2209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2971800" y="4114800"/>
            <a:ext cx="4705200" cy="22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C69D2-7C69-4FFD-950A-5B884F4A666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JGI Human Chromosome Anno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219320"/>
            <a:ext cx="2438280" cy="41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0093"/>
                </a:solidFill>
                <a:latin typeface="Comic Sans MS"/>
              </a:rPr>
              <a:t>Responsible for human chromosomes 5, 16, and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0009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Comic Sans MS"/>
              </a:rPr>
              <a:t>Roughly 3,100-4,400 gene lo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1371600"/>
            <a:ext cx="662940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nown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ve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seu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19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 Mb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32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4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46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5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81 Mb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25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9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2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1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2 Mb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1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93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09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r19-pu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r5 - complete. Paper in pro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r16-completed First Pass, should be done in the next month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41F26-015F-4B14-8D54-B3A90AB72B5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n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295280"/>
            <a:ext cx="58672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rategy: seek best automated models using a hierarchy of evidence.  Manually review high quality evidence (human mRNAs) for which no faithful models can be created automa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 fast as possibl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219320"/>
            <a:ext cx="2438280" cy="41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0093"/>
                </a:solidFill>
                <a:latin typeface="Comic Sans MS"/>
              </a:rPr>
              <a:t>Responsible for human chromosomes 5, 16, and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0009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Comic Sans MS"/>
              </a:rPr>
              <a:t>Roughly 4500 gene lo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D5B72-A5A4-4674-9E60-448BB51B215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cknowledg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nnot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ndrea Aer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teve Low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Joel Mart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aurie Gordo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ary Tran-Gyamf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ary Xi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ichael Alther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Jean Challacomb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athy Clel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Nina Thay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Jeremy Schmutz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Yee Man Ch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1123920"/>
            <a:ext cx="28954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Uffe Helste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Wayne Huang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avid Goodstei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gor Grigoriev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am Rash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ean Caenape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saf Salam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saac Ho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eila Horni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nnette Gre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Victor Solovyev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van Ovcharenk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livier Couronn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aramvir Deha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na Dubchak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isa Stubb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nd Dan Rokhs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84B0B-B831-4A5B-B20B-86907E2A064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ene fami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7920" y="1143000"/>
            <a:ext cx="6705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ny gene families have known gene structures but lack extensive mRNA/EST evidence in hum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factory receptors (approximately 40 genes, as many as 150 pseudogenes) -- single exon, seven transmembrane recep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KRAB-containing Zn fingers -- single KRAB domain near amino terminal, followed by typically one exon with multiple zinc fing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d several other famil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uild custom models using expected gene structure using automated methods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utomatically identify pseudogenes, which are common in tandem gene famili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uch tandem families are hard to model ab initio, easy to run genes togeth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18AFB-BCC6-4F73-8AB9-6FC401A507D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ifficult  Scen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90920" y="1371240"/>
            <a:ext cx="5867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RNAi non-coding loc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Single exon gen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Encodes 136 aa ORF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Locus supported by multiple mRNA and EST evidenc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ntisense to TRAP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2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No similarities to known proteins.</a:t>
            </a:r>
            <a:r>
              <a:rPr b="0" lang="en-US" sz="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 rot="10800000">
            <a:off x="838080" y="4343040"/>
            <a:ext cx="7772400" cy="50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84FB7-9A93-4C0F-89F5-C2A529F7CAF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752120" y="1676160"/>
            <a:ext cx="71629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Human Annotation @ the JG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strid Ter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utomated anno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nual Cu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D2E8A-5501-448F-8798-622DD84F57FC}" type="slidenum">
              <a:t>23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utomated Pipeline Hard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63600" y="1981080"/>
          <a:ext cx="4816800" cy="18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3600" y="1981080"/>
                    <a:ext cx="4816800" cy="18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2666880" y="449568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 run multiple non-dependent steps in parall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roken into commands of varying 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~ 100000s-1,000,000 cmds/jobs issued</a:t>
            </a: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DABBD-9D74-4A8A-93D3-808397C23FB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utomated Pipeline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03160" y="1192320"/>
          <a:ext cx="7993080" cy="505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1192320"/>
                    <a:ext cx="799308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1728F-1E6E-4DD3-A902-AC36CE7C5B9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90560" y="1219320"/>
            <a:ext cx="6553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p all human mRNAs in Genbank with BLAT against sequence scaffol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tempt to turn these mRNAs into faithful gene mod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spect coding sequence declared in Genbank, or use  longest ORF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ow canonical spli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T…AG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9.6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C…AG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.4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…AC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.01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lag for review evidence for any single base indels (helps correct finishing error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lastx alignments of known protein Dbs, seed GeneWise mod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b inito model predictions using FgenesH++ and Gensc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77917-CB8B-4AF6-B18E-C3269898E02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ful datasets &amp;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7920" y="1371600"/>
            <a:ext cx="6705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fSeq &amp; Human cD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use cDNA set is large, and more Rat data every 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use &amp; Rat IPI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uild model using blastx alignments to seed GeneWis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xtend with partial human mRNAs (ES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ertebrate mRNA is also a useful dataset for validation/confirmation but not essential (Primate data until recently has not been available in useful quantiti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rst EF: First Exon Finder (M Zhang) vs CpG Isl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volutionary conservation (Vista, dcode, in-house tool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BF30D-29F1-4470-9AAB-0011FF7800B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1506600"/>
            <a:ext cx="8839080" cy="53514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09320" y="-3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nnotation Brow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4C4C8-5FD9-4471-A4BD-EDD49E1BA5C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unctional ann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7920" y="106668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ecomputed alignments and domain finders allow easy viewing of predicted peptide’s proper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4114800"/>
            <a:ext cx="221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interfaces for assigning putative functions based on homology, do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19520" y="2590920"/>
            <a:ext cx="5975280" cy="27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20F6A-C7FA-4703-9305-EF5DE20176D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racking Ev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724280" y="1206360"/>
            <a:ext cx="3810240" cy="3213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2120" y="2438280"/>
            <a:ext cx="3809880" cy="1957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724280" y="4394160"/>
            <a:ext cx="3810240" cy="193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FD693-82B7-4DC9-912A-A90D0E3FA83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3T17:21:30Z</dcterms:created>
  <dc:creator>DOE JGI</dc:creator>
  <dc:description/>
  <cp:keywords>Presentation Generic</cp:keywords>
  <dc:language>en-US</dc:language>
  <cp:lastModifiedBy>DOE JGI</cp:lastModifiedBy>
  <cp:lastPrinted>2000-11-14T22:10:33Z</cp:lastPrinted>
  <dcterms:modified xsi:type="dcterms:W3CDTF">2004-04-26T19:07:38Z</dcterms:modified>
  <cp:revision>20</cp:revision>
  <dc:subject>Berkeley Lab Generic Presentation</dc:subject>
  <dc:title>PowerPoint Presentation</dc:title>
</cp:coreProperties>
</file>